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692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79044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87912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67800" y="4687920"/>
            <a:ext cx="53564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79044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585-4F0F-4421-A1DC-0B997496DC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67800" y="4687920"/>
            <a:ext cx="53564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ACF-0733-420E-8E68-0A6EAB9A7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4DA-FBD5-47C5-98F6-3CF64E50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94F-1CC8-4B0B-8F6B-623B811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B4693-49BD-4DE5-8368-DD61B466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4C2D9-38BC-4183-AC5E-E8DD80C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9786E-03D3-473C-B1F7-2CDAE14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5FF50-1640-49C6-9CA8-1BD3634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11C9F-5932-4680-99D8-E28B7BF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9B08-5100-40EA-830E-25C6B73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F3EE-9862-4148-9570-053EA02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2EDF-B4EF-40D1-97BB-0282E9C8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58AEE-10F7-4288-9E9F-C63B3369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1D6-214F-4311-8249-1CC4E11D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290-03C4-4EBD-94E3-0DBAD0DF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EFAB-92B4-4427-A564-955DAFD1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E1D-FCC0-47AE-8941-14B321F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4470-7CAE-48EC-B4F7-E6DC18BE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AE0-CF77-4BD0-90FB-1F4EFD3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313-462A-4EF0-BFBB-356D04B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9F9E-8ED6-491D-882A-741136F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A7D2-B73A-435E-98AF-9B8F9F8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CC8-CEDF-4D75-AD63-210D755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B0B1-50C2-4BE7-83C0-A9D4440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42E-2AAB-4270-A5AB-49F5FB6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6ED-6DA1-4F55-A151-24D1938C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E9D7-9777-4CCB-B42A-DFBC863F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66B-0D17-46C2-9482-BF9CB926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BFDC-42FB-4DBB-9024-16FDC1B3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4294-A8F6-49EE-B865-A0BBA608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9F25-8A29-4DDA-825F-88A71D92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190E-BD61-4310-BC7A-35DA57B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62F8-0A5F-4C90-80E3-5C90A6D3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D53-3CBD-4254-95EE-5AB17EC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B0AE-25B1-48A4-A10E-9FF8E052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A189-5A98-4131-BD98-1C14823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6212-01F6-43E5-B08F-2A97BDD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5EF5-6A5C-422C-8C13-B783469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E50-C3F2-49AB-B3FC-342FD29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DD7D-63F0-4AF2-9D0B-FF53A0A0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E1BE-89A0-4000-BE81-EF7233AB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8567-820B-42E3-A976-6F031992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13A3-B2FC-4B92-9062-058B14A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74C04-1AB3-494F-AEB9-C0B8E1AC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B5C-7FF0-4BE4-BA98-D8FA3FF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2792-A3F9-4733-95F1-4E788F7A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EF43-E34D-4F86-A913-841B83A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D0D9-8B86-40AA-B43D-5AFAFAF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4228-AF30-4682-A2C0-B7EF395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0693-A337-4524-A941-91C4CD5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7FDE-D771-4388-BA41-0204379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1E71-1A30-4E36-B9BF-BFEAB7A7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161C-0276-409B-8422-2C4A4993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31C2-2C9F-4708-8C6A-BAF2CC23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8F8A-DA95-446B-8B23-76ED3C29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836-4075-43A3-9795-D02AD4AC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BA57-331C-4C68-A579-241C6EF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F998-BF9D-4F71-827C-E6515DC0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A67A-50BC-4009-92D1-D0616AEF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5184-8A44-4F59-9AA4-7265886F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26AB-E1F9-416A-9F17-E668882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2660-21E9-4955-8180-B943110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B9DD-2735-4BD0-A8BA-AB57915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C446-5AF7-49CD-8203-253A8D7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F0B6-4CA7-4AD1-9450-F54520B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FA31-0E3B-40A7-A741-51C1610C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FFC-738A-49A7-AAA1-C2FBC77D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D307-558B-4F7A-A247-994CF384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D4E0-3C31-4FA3-A034-232BFECE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6128-DBFC-4509-AF8F-EC5D553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5660-CE0D-4B7E-AEC3-01AF7E3B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4C1E-12DE-463D-9E81-B949E33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C67D-5C51-4C3E-AF86-E5551DEB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6593-0B7E-4223-A794-4D72981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F24B-5238-455C-92DB-A32A2F6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DC819-0C1E-45B0-ACA1-C247711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A505-FB0D-4A16-9860-6F2B17A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861-CC5A-4A72-A5A2-334EC0E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FFFB-DC3C-473F-9445-4C643332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BC28-1301-47F8-85EA-0D90B485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97BC7-8683-4A3F-A806-01D9D31E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F500-5F68-4131-8058-2F627E94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4168-6492-439A-8221-8A7287F3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EADA8-5609-477B-A49C-0D5CE858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58C41-ECAE-494A-BF20-B6D1116F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CFA7A-1D85-475C-A9A3-DA8C67A2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3E60-BE91-4914-87DD-599094B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ABF1-23F0-48B4-83D8-4F67EB2A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CB1-E3FB-4B40-9830-2502B23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DA63-665E-4131-9DA3-4105A99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06C5-4F3A-42D6-8508-65F094F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3893-3602-4B29-88A8-389B4FD6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015E-94E5-4943-BE0F-9A1A261C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18E8-CDAA-4679-92A6-CF3025D5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135B-1DEE-4CB7-969E-A3DACE5F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27497-F61B-483B-BA90-B68667D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D3E2-3CA6-409B-BA9C-E975C8DA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0BB4-4033-4023-89F6-CEE1B5FF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1B6C6-F271-477B-8C66-53DF890E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901-A031-44A9-A9A0-9188D5F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DAFB-7133-42FD-BB4D-EF231E06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FD8B-0C81-4B8E-B582-4F355D3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F71F-986D-4787-AFD8-0C4C61C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5638-18E0-41CE-8090-7784B78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F8242-7E82-4045-9659-6A81D44C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BDCC-C81F-4FC5-90BB-6CCE1F69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7436-E581-443B-B525-9614173F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6C81-F7BA-4501-B2C3-DCDA8E60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DB589-2905-4619-BB3A-68EF685D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5AFD-8E37-4702-888D-1FC6780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DF3-FABD-4B2B-A196-FDA8FC7A5E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F07F-3F07-42FB-AB7F-4D99001DC4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300-233F-41C1-9094-855D912C48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6AB0-9285-40BB-9114-2F30666D46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B24-9E65-4153-96C1-725C34C093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701-8BCB-45C1-AA24-4F4991DC3D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05AE-6722-4214-80C6-BE5A3F6D35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823-2367-4294-8A4B-9AD6E28F94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589-5CD4-43A4-896D-4932EBFD14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tandart.edu.ru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417600" y="981000"/>
            <a:ext cx="8496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 внеурочн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программ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промежуточных результат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780000" y="493416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357720" y="1646280"/>
            <a:ext cx="29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285840"/>
            <a:ext cx="2367000" cy="103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vneuroch_deyat"/>
          <p:cNvPicPr/>
          <p:nvPr/>
        </p:nvPicPr>
        <p:blipFill>
          <a:blip r:embed="rId3"/>
          <a:stretch/>
        </p:blipFill>
        <p:spPr>
          <a:xfrm rot="857400">
            <a:off x="5375160" y="2900520"/>
            <a:ext cx="188280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Рисунок 8" descr="C:\Documents and Settings\Светлана.HOME\Рабочий стол\стандарты 2010.bmp"/>
          <p:cNvPicPr/>
          <p:nvPr/>
        </p:nvPicPr>
        <p:blipFill>
          <a:blip r:embed="rId4"/>
          <a:stretch/>
        </p:blipFill>
        <p:spPr>
          <a:xfrm rot="20456400">
            <a:off x="2079720" y="2827440"/>
            <a:ext cx="1608120" cy="26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9" descr="vneuroc"/>
          <p:cNvPicPr/>
          <p:nvPr/>
        </p:nvPicPr>
        <p:blipFill>
          <a:blip r:embed="rId5"/>
          <a:stretch/>
        </p:blipFill>
        <p:spPr>
          <a:xfrm>
            <a:off x="3492360" y="2708280"/>
            <a:ext cx="200052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TextBox 9"/>
          <p:cNvSpPr/>
          <p:nvPr/>
        </p:nvSpPr>
        <p:spPr>
          <a:xfrm>
            <a:off x="-179280" y="6021360"/>
            <a:ext cx="898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аранина Светлана Александровна  Заместитель директора по УВР МБОУ  Вольгинская СО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6484680" cy="1049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178920" y="1447920"/>
            <a:ext cx="871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Учет занятости учащихся внеурочной деятельностью осуществляется педагогом в журнале учета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Журнал учета должен содержать следующую информацию: фамилию, имя, отчество педагога, фамилии, имена обучающихся, класс, дату и форму проведения занятия, содержание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держание занятий в Журнале учета должно соответствовать содержанию программы внеурочной деятельности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0A9-7F95-4211-B0B8-4930D10EF6C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7" descr="logo"/>
          <p:cNvPicPr/>
          <p:nvPr/>
        </p:nvPicPr>
        <p:blipFill>
          <a:blip r:embed="rId2"/>
          <a:stretch/>
        </p:blipFill>
        <p:spPr>
          <a:xfrm>
            <a:off x="6500880" y="214200"/>
            <a:ext cx="23572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37"/>
          <p:cNvSpPr/>
          <p:nvPr/>
        </p:nvSpPr>
        <p:spPr>
          <a:xfrm>
            <a:off x="4572000" y="2133720"/>
            <a:ext cx="1800360" cy="23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4"/>
          <p:cNvSpPr/>
          <p:nvPr/>
        </p:nvSpPr>
        <p:spPr>
          <a:xfrm flipH="1">
            <a:off x="2195280" y="2133720"/>
            <a:ext cx="2376360" cy="27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0" y="2637000"/>
            <a:ext cx="3024360" cy="165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портивно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здоров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Уроки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5"/>
          <p:cNvSpPr/>
          <p:nvPr/>
        </p:nvSpPr>
        <p:spPr>
          <a:xfrm>
            <a:off x="1835280" y="857160"/>
            <a:ext cx="6172200" cy="1312920"/>
          </a:xfrm>
          <a:prstGeom prst="flowChartMultidocument">
            <a:avLst/>
          </a:prstGeom>
          <a:gradFill rotWithShape="0">
            <a:gsLst>
              <a:gs pos="0">
                <a:srgbClr val="f0a22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Направления внеуроч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4929120" y="4714920"/>
            <a:ext cx="2951280" cy="180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бще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-в «Исследова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1680" y="5000760"/>
            <a:ext cx="3095280" cy="158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уховно-нрав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-в«Наш край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1"/>
          <p:cNvSpPr/>
          <p:nvPr/>
        </p:nvSpPr>
        <p:spPr>
          <a:xfrm>
            <a:off x="3059280" y="2857680"/>
            <a:ext cx="2736720" cy="185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оциа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уб «Маленькая стра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6227640" y="2421000"/>
            <a:ext cx="2700360" cy="17985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бщекультур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ж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ародные промыс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3"/>
          <p:cNvSpPr/>
          <p:nvPr/>
        </p:nvSpPr>
        <p:spPr>
          <a:xfrm flipH="1">
            <a:off x="1692000" y="2133720"/>
            <a:ext cx="2879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5"/>
          <p:cNvSpPr/>
          <p:nvPr/>
        </p:nvSpPr>
        <p:spPr>
          <a:xfrm flipH="1">
            <a:off x="4500720" y="2133720"/>
            <a:ext cx="712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6"/>
          <p:cNvSpPr/>
          <p:nvPr/>
        </p:nvSpPr>
        <p:spPr>
          <a:xfrm>
            <a:off x="4572000" y="2133720"/>
            <a:ext cx="29527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89" descr=""/>
          <p:cNvPicPr/>
          <p:nvPr/>
        </p:nvPicPr>
        <p:blipFill>
          <a:blip r:embed="rId1"/>
          <a:stretch/>
        </p:blipFill>
        <p:spPr>
          <a:xfrm>
            <a:off x="334800" y="165240"/>
            <a:ext cx="724248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571680" y="1143000"/>
          <a:ext cx="8177040" cy="5410080"/>
        </p:xfrm>
        <a:graphic>
          <a:graphicData uri="http://schemas.openxmlformats.org/drawingml/2006/table">
            <a:tbl>
              <a:tblPr/>
              <a:tblGrid>
                <a:gridCol w="2076120"/>
                <a:gridCol w="1841760"/>
                <a:gridCol w="1844640"/>
                <a:gridCol w="2414520"/>
              </a:tblGrid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0-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-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0-8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0-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. класс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и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0-10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ческая па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-1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-1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тый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0-1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д, прогу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-13-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ГП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3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45-14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-30-13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ру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ка детей до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ГП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3" name="Picture 7" descr="logo"/>
          <p:cNvPicPr/>
          <p:nvPr/>
        </p:nvPicPr>
        <p:blipFill>
          <a:blip r:embed="rId2"/>
          <a:stretch/>
        </p:blipFill>
        <p:spPr>
          <a:xfrm>
            <a:off x="6500880" y="21420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9"/>
          <p:cNvSpPr/>
          <p:nvPr/>
        </p:nvSpPr>
        <p:spPr>
          <a:xfrm>
            <a:off x="684360" y="5877000"/>
            <a:ext cx="225360" cy="225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38"/>
          <p:cNvSpPr/>
          <p:nvPr/>
        </p:nvSpPr>
        <p:spPr>
          <a:xfrm>
            <a:off x="684360" y="6165720"/>
            <a:ext cx="225360" cy="21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37"/>
          <p:cNvSpPr/>
          <p:nvPr/>
        </p:nvSpPr>
        <p:spPr>
          <a:xfrm>
            <a:off x="684360" y="6453360"/>
            <a:ext cx="225360" cy="201600"/>
          </a:xfrm>
          <a:prstGeom prst="rect">
            <a:avLst/>
          </a:prstGeom>
          <a:solidFill>
            <a:srgbClr val="d995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45"/>
          <p:cNvSpPr/>
          <p:nvPr/>
        </p:nvSpPr>
        <p:spPr>
          <a:xfrm>
            <a:off x="-482760" y="-2441520"/>
            <a:ext cx="314964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0" y="549360"/>
          <a:ext cx="9144000" cy="4946400"/>
        </p:xfrm>
        <a:graphic>
          <a:graphicData uri="http://schemas.openxmlformats.org/drawingml/2006/table">
            <a:tbl>
              <a:tblPr/>
              <a:tblGrid>
                <a:gridCol w="285840"/>
                <a:gridCol w="2786040"/>
                <a:gridCol w="1428840"/>
                <a:gridCol w="1176120"/>
                <a:gridCol w="1143000"/>
                <a:gridCol w="1181160"/>
                <a:gridCol w="11430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ртивная сек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Уроки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илиппова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ат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Я-исследов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уб «Маленькая стра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атив «Наш край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ялева Г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чалова С.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ова Е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жок «Народные промыс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яева О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  <p:sp>
        <p:nvSpPr>
          <p:cNvPr id="469" name="Rectangle 1547"/>
          <p:cNvSpPr/>
          <p:nvPr/>
        </p:nvSpPr>
        <p:spPr>
          <a:xfrm>
            <a:off x="-480960" y="5508720"/>
            <a:ext cx="18072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49"/>
          <p:cNvSpPr/>
          <p:nvPr/>
        </p:nvSpPr>
        <p:spPr>
          <a:xfrm>
            <a:off x="4680000" y="5735520"/>
            <a:ext cx="41875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спортивно – оздоровите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50"/>
          <p:cNvSpPr/>
          <p:nvPr/>
        </p:nvSpPr>
        <p:spPr>
          <a:xfrm>
            <a:off x="1020240" y="5880240"/>
            <a:ext cx="26618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социа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51"/>
          <p:cNvSpPr/>
          <p:nvPr/>
        </p:nvSpPr>
        <p:spPr>
          <a:xfrm>
            <a:off x="1017000" y="6126480"/>
            <a:ext cx="365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интеллектуаль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73"/>
          <p:cNvSpPr/>
          <p:nvPr/>
        </p:nvSpPr>
        <p:spPr>
          <a:xfrm>
            <a:off x="4716360" y="6237360"/>
            <a:ext cx="225360" cy="2253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72"/>
          <p:cNvSpPr/>
          <p:nvPr/>
        </p:nvSpPr>
        <p:spPr>
          <a:xfrm>
            <a:off x="4716360" y="5877000"/>
            <a:ext cx="225360" cy="225360"/>
          </a:xfrm>
          <a:prstGeom prst="rect">
            <a:avLst/>
          </a:prstGeom>
          <a:solidFill>
            <a:srgbClr val="1736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74"/>
          <p:cNvSpPr/>
          <p:nvPr/>
        </p:nvSpPr>
        <p:spPr>
          <a:xfrm>
            <a:off x="607320" y="5664600"/>
            <a:ext cx="233712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словные обозна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576"/>
          <p:cNvSpPr/>
          <p:nvPr/>
        </p:nvSpPr>
        <p:spPr>
          <a:xfrm>
            <a:off x="4788000" y="6156360"/>
            <a:ext cx="376848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духовно – нравственное направление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77"/>
          <p:cNvSpPr/>
          <p:nvPr/>
        </p:nvSpPr>
        <p:spPr>
          <a:xfrm>
            <a:off x="1354320" y="6381720"/>
            <a:ext cx="25995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щекультурное на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579"/>
          <p:cNvSpPr/>
          <p:nvPr/>
        </p:nvSpPr>
        <p:spPr>
          <a:xfrm>
            <a:off x="1692360" y="0"/>
            <a:ext cx="6408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1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Narrow"/>
              </a:rPr>
              <a:t>Расписание внеурочной деятельности в 1 класс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4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352000" cy="12747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323640" y="1285920"/>
            <a:ext cx="856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Ожидаемые результаты связаны с обретением системой внеурочной деятельности такого важного качества, как эффективность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два основных критерия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1) продуктивность деятельности;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2) удовлетворенность участников деятельности ее организацией и результатам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BA7-F168-4A94-9C08-226D5495F14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566640" y="30240"/>
            <a:ext cx="8077320" cy="15066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68544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   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знания, умения и навыки, сформированные у школьников в процессе занятий в объединениях дополнительного образования и в ходе подготовки и проведения внеурочных воспитательных дел;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85D-E2F8-45D3-B81C-22229756B74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logo"/>
          <p:cNvPicPr/>
          <p:nvPr/>
        </p:nvPicPr>
        <p:blipFill>
          <a:blip r:embed="rId2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360360" y="208080"/>
            <a:ext cx="8375760" cy="1388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-360" y="1643040"/>
            <a:ext cx="4000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611280" y="59500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о взаимодействии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SAM_1783"/>
          <p:cNvPicPr/>
          <p:nvPr/>
        </p:nvPicPr>
        <p:blipFill>
          <a:blip r:embed="rId2"/>
          <a:stretch/>
        </p:blipFill>
        <p:spPr>
          <a:xfrm>
            <a:off x="4788000" y="1268280"/>
            <a:ext cx="3603600" cy="4618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749160" y="420840"/>
            <a:ext cx="7785360" cy="13046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310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 дружественной детской среде</a:t>
            </a:r>
            <a:r>
              <a:rPr b="1" i="1" lang="ru-RU" sz="18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ллективе</a:t>
            </a:r>
            <a:r>
              <a:rPr b="1" i="1" lang="ru-RU" sz="18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SAM_1505"/>
          <p:cNvPicPr/>
          <p:nvPr/>
        </p:nvPicPr>
        <p:blipFill>
          <a:blip r:embed="rId2"/>
          <a:stretch/>
        </p:blipFill>
        <p:spPr>
          <a:xfrm>
            <a:off x="4140360" y="2205000"/>
            <a:ext cx="4667040" cy="27972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888400" cy="15238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466560" y="595008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ется во взаимодействии с социальными су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SAM_1769"/>
          <p:cNvPicPr/>
          <p:nvPr/>
        </p:nvPicPr>
        <p:blipFill>
          <a:blip r:embed="rId2"/>
          <a:stretch/>
        </p:blipFill>
        <p:spPr>
          <a:xfrm>
            <a:off x="3708360" y="1557360"/>
            <a:ext cx="5184720" cy="4317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logo"/>
          <p:cNvPicPr/>
          <p:nvPr/>
        </p:nvPicPr>
        <p:blipFill>
          <a:blip r:embed="rId3"/>
          <a:stretch/>
        </p:blipFill>
        <p:spPr>
          <a:xfrm>
            <a:off x="6643800" y="214200"/>
            <a:ext cx="21524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7994-B6A2-4614-9059-4790CBA9FF0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G:\фото\IMG_5970.JPG"/>
          <p:cNvPicPr/>
          <p:nvPr/>
        </p:nvPicPr>
        <p:blipFill>
          <a:blip r:embed="rId1"/>
          <a:stretch/>
        </p:blipFill>
        <p:spPr>
          <a:xfrm>
            <a:off x="4714920" y="3571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G:\фото\IMG_5529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G:\фото\IMG_6103.JPG"/>
          <p:cNvPicPr/>
          <p:nvPr/>
        </p:nvPicPr>
        <p:blipFill>
          <a:blip r:embed="rId3"/>
          <a:stretch/>
        </p:blipFill>
        <p:spPr>
          <a:xfrm>
            <a:off x="571680" y="3571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G:\фото\IMG_6113.JPG"/>
          <p:cNvPicPr/>
          <p:nvPr/>
        </p:nvPicPr>
        <p:blipFill>
          <a:blip r:embed="rId4"/>
          <a:stretch/>
        </p:blipFill>
        <p:spPr>
          <a:xfrm>
            <a:off x="428760" y="42876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851680" cy="1030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820-F13B-495F-816F-0BDA6C311CE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"/>
          <p:cNvSpPr/>
          <p:nvPr/>
        </p:nvSpPr>
        <p:spPr>
          <a:xfrm>
            <a:off x="357120" y="1571760"/>
            <a:ext cx="842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оздание  условий для достижения учащимися  необходимого для жизни в обществе социального опыта и формирования принимаемой обществом системы ценностей, создание условий для многогранного развития и социализации каждого учащегося в свободное от учёбы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6720" y="285840"/>
            <a:ext cx="2081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-139680" y="255600"/>
            <a:ext cx="9137520" cy="13287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ыставки художественного творчества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ыпуск сборников творческих работ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ртивные соревновани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Годовой круг дел и традиций 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ень открытых дверей для родителей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«Малое» научное общество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Творческие отчеты объединений дополнительного образовани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свещение достижений учащихся в средствах массовой информации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Диагностика достижений учащихся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Фотовыставки «Наши рекорды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Накопительная оценка. «Портфель достижений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Конкурс «Ученик года»;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CDE-7F3D-4BA8-A726-D7FF8CF0E9F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logo"/>
          <p:cNvPicPr/>
          <p:nvPr/>
        </p:nvPicPr>
        <p:blipFill>
          <a:blip r:embed="rId2"/>
          <a:stretch/>
        </p:blipFill>
        <p:spPr>
          <a:xfrm>
            <a:off x="7215120" y="214200"/>
            <a:ext cx="1581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2"/>
          <p:cNvSpPr/>
          <p:nvPr/>
        </p:nvSpPr>
        <p:spPr>
          <a:xfrm>
            <a:off x="500040" y="2858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водится в течение всего учеб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форме анкетирования,  (табл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2960" y="172944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Эту таблицу умений и навыков предлагается заполнять так. Сначала преподаватель читают ученику умение и предлагают подумать – согласен ли он, что это умеет. Если ученик согласен, он ставит напротив знак «+», если не согласен – не ставит ничего. Преподаватель потом на основании своих наблюдений за учеником может выразить свое мнение – заметил он, как ученик проявляет данное умение, или нет: обвести знак «+» в кружок или не обвод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5"/>
          <p:cNvSpPr/>
          <p:nvPr/>
        </p:nvSpPr>
        <p:spPr>
          <a:xfrm>
            <a:off x="928800" y="557208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6"/>
          <p:cNvSpPr/>
          <p:nvPr/>
        </p:nvSpPr>
        <p:spPr>
          <a:xfrm>
            <a:off x="928800" y="6215040"/>
            <a:ext cx="214200" cy="214200"/>
          </a:xfrm>
          <a:prstGeom prst="ellipse">
            <a:avLst/>
          </a:prstGeom>
          <a:solidFill>
            <a:srgbClr val="3333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7"/>
          <p:cNvSpPr/>
          <p:nvPr/>
        </p:nvSpPr>
        <p:spPr>
          <a:xfrm>
            <a:off x="5429160" y="5500800"/>
            <a:ext cx="214560" cy="214200"/>
          </a:xfrm>
          <a:prstGeom prst="ellipse">
            <a:avLst/>
          </a:prstGeom>
          <a:solidFill>
            <a:srgbClr val="ff8633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8"/>
          <p:cNvSpPr/>
          <p:nvPr/>
        </p:nvSpPr>
        <p:spPr>
          <a:xfrm>
            <a:off x="5429160" y="614376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3"/>
          <p:cNvSpPr txBox="1"/>
          <p:nvPr/>
        </p:nvSpPr>
        <p:spPr>
          <a:xfrm>
            <a:off x="1285920" y="5572080"/>
            <a:ext cx="27147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ост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0" name="WordArt 4"/>
          <p:cNvSpPr txBox="1"/>
          <p:nvPr/>
        </p:nvSpPr>
        <p:spPr>
          <a:xfrm>
            <a:off x="1285920" y="6072120"/>
            <a:ext cx="2733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наватель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1" name="WordArt 5"/>
          <p:cNvSpPr txBox="1"/>
          <p:nvPr/>
        </p:nvSpPr>
        <p:spPr>
          <a:xfrm>
            <a:off x="5786280" y="5429160"/>
            <a:ext cx="27338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ятив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WordArt 6"/>
          <p:cNvSpPr txBox="1"/>
          <p:nvPr/>
        </p:nvSpPr>
        <p:spPr>
          <a:xfrm>
            <a:off x="5857920" y="6000840"/>
            <a:ext cx="2733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муникативные УУД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3" name="Picture 7" descr="logo"/>
          <p:cNvPicPr/>
          <p:nvPr/>
        </p:nvPicPr>
        <p:blipFill>
          <a:blip r:embed="rId1"/>
          <a:stretch/>
        </p:blipFill>
        <p:spPr>
          <a:xfrm>
            <a:off x="6786720" y="214200"/>
            <a:ext cx="2009520" cy="87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142920" y="142920"/>
          <a:ext cx="8786880" cy="6508800"/>
        </p:xfrm>
        <a:graphic>
          <a:graphicData uri="http://schemas.openxmlformats.org/drawingml/2006/table">
            <a:tbl>
              <a:tblPr/>
              <a:tblGrid>
                <a:gridCol w="5572080"/>
                <a:gridCol w="857160"/>
                <a:gridCol w="928800"/>
                <a:gridCol w="642960"/>
                <a:gridCol w="785880"/>
              </a:tblGrid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октяб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 декаб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а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казать, что и зачем мы будем делать на заня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казать, что нового я узнал на заня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наблюдать и делать выв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запомнить важные све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с уважением отношусь к другим людя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выполняю правила, о которых мы договорились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объяснять, что я чувств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понимаю, что в моей жизни мне помогают другие люди и природа, что я не могу жить без ни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прочесть про себя и вслух небольшое  задание, понять его смысл и рассказать о не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помню наизусть и могу сыграть небольшой отрывок из музыкального произведе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правильно выполнить без посторонней помощи небольшую поделку по схем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самостоятельно сделать небольшую презентац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слушать и слышать преподавателя и одноклассник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14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могу устно дать полный ответ  на вопрос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выполнять не сложные элементы в танце (модульном оригами и т.д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решать задачи на сложение и вычитание в одно действие и чертить различные геометрические фигур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Я умею разделять предметы на группы, объяснять их сходство и находить лиш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56EE-E64D-4814-9A8A-AD761462F87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C:\Users\Светлана\Desktop\сем зав\семинар фотки\IMG_1187.JPG"/>
          <p:cNvPicPr/>
          <p:nvPr/>
        </p:nvPicPr>
        <p:blipFill>
          <a:blip r:embed="rId1"/>
          <a:stretch/>
        </p:blipFill>
        <p:spPr>
          <a:xfrm>
            <a:off x="714240" y="500040"/>
            <a:ext cx="78552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22F-734B-4DCB-BE01-152E93C61E0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6566040" cy="1420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урочная деятельность в начальной школе позволяет решить ещё целый ряд очень важных задач: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ть благоприятную адаптацию ребенка в школе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изировать учебную нагрузку обучающихся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учшить условия для развития ребенка; 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сть возрастные и индивидуальные особенности обучающихся.</a:t>
            </a:r>
            <a:endParaRPr b="0" lang="en-US" sz="30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1A5-CF81-47C6-8C23-213DF36819A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4" descr=""/>
          <p:cNvPicPr/>
          <p:nvPr/>
        </p:nvPicPr>
        <p:blipFill>
          <a:blip r:embed="rId1"/>
          <a:stretch/>
        </p:blipFill>
        <p:spPr>
          <a:xfrm>
            <a:off x="182520" y="378000"/>
            <a:ext cx="6894720" cy="12380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13840" y="1447920"/>
            <a:ext cx="8750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инцип систем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взаимосвязи между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семи участниками внеуроч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сновными компонентами организуемой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рочной и внеурочной деятельностью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егиональной, муниципальной, общешкольной, классной, индивидуальной системами воспитания и дополнительного образования школьников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2.Принцип вариатив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Принцип креативности.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инцип успешности и социальной значимости. Усилия направляются на формирование у детей потребности в достижении успеха. Важно, чтобы достигаемые ребенком результаты были не только личностно значимыми, но и ценными для окружающих, особенно для его одноклассников, членов школьного коллектива, представителей ближайшего социального окружения учебного заведения.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AC3-7DA4-4B4C-817E-56E1EC767151}" type="slidenum">
              <a:rPr b="0" lang="ru-RU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454960" cy="135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250560" y="1285920"/>
            <a:ext cx="856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нормативный правовой документ – ФГОС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 типу организационной модели на  базе Вольгинской СОШ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Оптимизационная модель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(на основе оптимизации всех внутренних ресурсов образовательного учреждения);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2CF6-4381-4C8C-A6FA-F8E07CF1A6D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554040" y="12600"/>
            <a:ext cx="8066160" cy="1408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4000" y="1143000"/>
            <a:ext cx="864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но можно выделить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 этапа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ключающий в себя диагностику интересов, увлечений, потребностей детей, запросов их родителей и проектирование на основе ее результатов системы организации внеурочной деятельности в образовательном учреждении и его структурных подразделениях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онно-деятельностны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 рамках которого происходит создание и функционирование разработанной системы внеурочной деятельности посредством ее ресурсного обеспечения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    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тический,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оде которого осуществляется анализ функционирования созданной системы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6CE-2488-4BBD-B62E-0B5EA6A5D3C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3" descr=""/>
          <p:cNvPicPr/>
          <p:nvPr/>
        </p:nvPicPr>
        <p:blipFill>
          <a:blip r:embed="rId1"/>
          <a:stretch/>
        </p:blipFill>
        <p:spPr>
          <a:xfrm>
            <a:off x="262080" y="146160"/>
            <a:ext cx="8358120" cy="1633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3640" y="1571760"/>
            <a:ext cx="8543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навыков сотрудничества, умения не создавать конфликтов и находить выходы из спорных ситуаций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мения планировать, контролировать и оценивать действия; определять наиболее эффективные способы достижения результата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стетических потребностей, ценностей и чувств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важительного отношения к России, родному краю, своей семье, истории, культуре, природе нашей страны, её современной жизни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установки на безопасный, здоровый образ жизни;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6" name="Номер слайда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639-99AC-425A-9837-A0FBEED71F23}" type="slidenum">
              <a:rPr b="0" lang="ru-RU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logo"/>
          <p:cNvPicPr/>
          <p:nvPr/>
        </p:nvPicPr>
        <p:blipFill>
          <a:blip r:embed="rId2"/>
          <a:stretch/>
        </p:blipFill>
        <p:spPr>
          <a:xfrm>
            <a:off x="6885000" y="285840"/>
            <a:ext cx="197316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6480" y="73080"/>
            <a:ext cx="8613720" cy="15177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50920" y="1628640"/>
            <a:ext cx="8616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 преимуществом внеурочной деятельности является предоставление обучающимся возможности широкого спектра занятий, направленных на их развитие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занятий, предусмотренных в рамках внеурочной деятельности,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тся с учётом пожеланий обучающихся и их родител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 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6E34-34D3-429D-9DEB-CF304A16C5A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7" descr="logo"/>
          <p:cNvPicPr/>
          <p:nvPr/>
        </p:nvPicPr>
        <p:blipFill>
          <a:blip r:embed="rId2"/>
          <a:stretch/>
        </p:blipFill>
        <p:spPr>
          <a:xfrm>
            <a:off x="6715080" y="285840"/>
            <a:ext cx="2152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58760" y="291960"/>
            <a:ext cx="6778440" cy="1049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68360" y="169992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Рабочая программа включает следующие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структурные элементы: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титульный лист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пояснительная записка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требования к уровню подготовки обучающихся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календарно-тематический план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одержание рабочей программы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редства контроля;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учебно-методические средства обучения.</a:t>
            </a: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8BC7-FED1-4F4F-A6C7-E2F1E205DF0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" descr="logo"/>
          <p:cNvPicPr/>
          <p:nvPr/>
        </p:nvPicPr>
        <p:blipFill>
          <a:blip r:embed="rId2"/>
          <a:stretch/>
        </p:blipFill>
        <p:spPr>
          <a:xfrm>
            <a:off x="6715080" y="214200"/>
            <a:ext cx="2143080" cy="7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1:47:05Z</dcterms:created>
  <dc:creator>Феденко</dc:creator>
  <dc:description/>
  <dc:language>en-US</dc:language>
  <cp:lastModifiedBy>Началка3</cp:lastModifiedBy>
  <dcterms:modified xsi:type="dcterms:W3CDTF">2013-04-13T08:23:42Z</dcterms:modified>
  <cp:revision>440</cp:revision>
  <dc:subject/>
  <dc:title>Слайд 1</dc:title>
</cp:coreProperties>
</file>